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E41-92D0-49BD-A221-6AEF90D8B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AA3-AF1A-4275-9DE4-2D010879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E87C-2110-4A85-AF47-66BC8046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FDC-F002-47B4-BC2D-42B61B62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0CC5-0BB6-4E3C-88FA-66BE88B2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0C0E-F99B-42D7-B565-FE978322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1C44-BD5E-433A-BC76-93811E89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51EF-F14D-4D52-8BA4-5967C1217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2ABC-8AB3-4814-ABEC-D706F9CE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7410-B9B1-4ECE-9EB0-0999DFDC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A6DE-85E3-46DA-9DD7-CC79BE62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3E45-2D8D-4370-A4CE-F424A306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A3F6-98CD-4ACD-B58A-1A60F560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2397-630C-4D19-86F2-A2F02C12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155A-E2CA-411E-89CD-CD1274D2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0A06-3D01-4547-9041-FBAE6C17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75AF1-89BA-431B-B822-11DB4F7D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8AD-47D1-453E-8B40-74623BE1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7FF3-580E-4571-9192-658FBD0C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BAD-4E07-405D-8AEF-2651305B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8E6B-97CA-4CAF-84F7-46FED980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3E5D-FCFF-4114-821B-2D329097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C51-D327-427F-9A3B-523D18F0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787D-16D1-4605-A6FD-2CDE1000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0438-452F-4B74-8D43-81055C888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2322-D77C-4506-A549-E2C63AC1B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oad-to-the-isles.org.uk/highland-cattle.jpg&amp;imgrefurl=http://www.road-to-the-isles.org.uk/beauty.html&amp;h=176&amp;w=289&amp;sz=17&amp;tbnid=iYYLrzVL4ooJ:&amp;tbnh=66&amp;tbnw=108&amp;start=11&amp;prev=/images%3Fq%3Dcattle%26hl%3Den%26lr%3D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erc.si.edu/forest_ecology/images/cornfield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ating Lower on the Food Cha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6248520" cy="2835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0" y="3200400"/>
            <a:ext cx="2286000" cy="1905120"/>
          </a:xfrm>
          <a:prstGeom prst="wedgeEllipseCallout">
            <a:avLst>
              <a:gd name="adj1" fmla="val -70208"/>
              <a:gd name="adj2" fmla="val 6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3581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hh, girls!!    I want to hear about this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t Petroleu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3505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s consume nearly as much fossil fuels at the supermarket as at the gas pu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ypical American burns about 530 gallons of gas each yea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ri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ating a meat based di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bbles up an additional 400  gallons of 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28191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acre of corn requires 140 gallons of oil to produ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ing corn directly maximizes the energy inves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corn goes to livestock, only about a fifth of the protein is returned as food, four-fifths i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800600"/>
            <a:ext cx="1905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ditional tid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quarter of all antibiotics produced are used in the U.S. for food anim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originated veggies may have been sprayed with D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A. water is full of DDT, washed off from foreign fruits and vegg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T is stored in fat – linked to breast cancer (90% breast cancer patients have DDT in their 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on of Concerned Scientists: List of Top Things You Can Do to Help the Pla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1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ive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2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t less red meat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iry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3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erve on heating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ling costs in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w products are the wor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45716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arly  87% of our agricultural land (50% for cows alone!) is engaged in animal production for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790960" cy="2971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781680" y="1143000"/>
            <a:ext cx="1828800" cy="1600200"/>
          </a:xfrm>
          <a:prstGeom prst="wedgeEllipseCallout">
            <a:avLst>
              <a:gd name="adj1" fmla="val -43750"/>
              <a:gd name="adj2" fmla="val 471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BEG YOUR PARD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.S. Crop % that goes to feed c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 -  90% of our soybeans, oats, wheat and 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038480" cy="4379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9480" y="4572000"/>
            <a:ext cx="5791320" cy="1143000"/>
          </a:xfrm>
          <a:prstGeom prst="wedgeEllipseCallout">
            <a:avLst>
              <a:gd name="adj1" fmla="val 47726"/>
              <a:gd name="adj2" fmla="val 47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!  You have a problem with t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w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1536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takes 16 lbs of wheat to make 1 lb of 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0 gallons of water per lb of cow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 lb of soybeans only takes about 260 gallons of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ypical North American Diet requires twice as much water to produce as less meat-intensive diets common in Asia and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ting  lower on food chain : same water could feed double th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ing animal products use ½ the water in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dairy cow drinks about 29 gallons of water a day, and needs 40 additional gallons for sanitation, producing only 8 gallons of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t Wa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llution (Deep Doo-Doo!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: agricultural runoff = primary pollution source for 60% of U.S. polluted rivers and stre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ag. = 130 times more than human waste and equivalent to 5 tons per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ITS NOT TREATED BY A SEWAGE TREATMENT PL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nure from a 200-head dairy operation produces as much nitrogen as sewage from a town of 10,000 peop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airy cow produces 120 lbs of waste a day, 12 times as much as a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total of 22 tons per  cow per y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629400" y="5029200"/>
            <a:ext cx="22860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t Tre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ting a plant based diet personally saves an acre of trees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0 million acres of U.S. forests have been cleared for livestock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133720"/>
            <a:ext cx="32004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ur foreign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out Central and South America, grazing and feed grain production are the leading economic forces behind rainforest destruc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quarter lb hamburger costs Mother Nature 55 square feet of forest l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is the world’s top beef impor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ast food restaurant can claim to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from a U.S. supplier b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 are not required to declare the 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origin of their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086600" y="762120"/>
            <a:ext cx="1728720" cy="1670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Rainforest Beef Header Graphic"/>
          <p:cNvPicPr/>
          <p:nvPr/>
        </p:nvPicPr>
        <p:blipFill>
          <a:blip r:embed="rId2"/>
          <a:stretch/>
        </p:blipFill>
        <p:spPr>
          <a:xfrm>
            <a:off x="5562720" y="5213520"/>
            <a:ext cx="358128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2:10:32Z</dcterms:created>
  <dc:creator>tosborne</dc:creator>
  <dc:description/>
  <dc:language>en-US</dc:language>
  <cp:lastModifiedBy>tosborne</cp:lastModifiedBy>
  <dcterms:modified xsi:type="dcterms:W3CDTF">2010-10-22T20:49:37Z</dcterms:modified>
  <cp:revision>15</cp:revision>
  <dc:subject/>
  <dc:title>Eating Lower on the Food Chain</dc:title>
</cp:coreProperties>
</file>